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B31-1021-4BFC-A15B-9F9185EA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90D-F2EA-47BD-BC51-1942486A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971-5E21-493A-92E5-55585E71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F8A-49AC-4849-B3D4-4467503A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41A0-0712-47F1-BAAB-E5FD4FF8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A16F-F955-47DE-8682-F8193B01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D923-E11D-4DC2-B14F-C7EF5148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45FA-38AA-4157-A7DC-989B06AF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64DF-FF76-41DC-8AC1-807D3D66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FD34-E43A-4E3F-9E38-DEBA9550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6F6E-D8A1-489E-9575-2A1521DA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AEA-C6A7-40AC-B9DE-F1099720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F646-1763-470C-B8C7-DC993DA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B555-19CB-4850-A536-77C1347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7A14-CD22-4703-A542-31A683D3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A498-1F4E-4E8B-B857-A2F55074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66FF-AF66-4B93-808C-3D57E322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42C-F2C0-4B85-95DD-05B89F02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841-6ED1-4AA4-834C-5323572C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8C4-E882-4A4F-9974-AC8A314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1F2-2562-4CA3-B676-E8C5709F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246-C1BD-42A6-8E58-94FAC55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EFB-9586-45CA-844A-AB610AC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8E1-9E2E-49E8-B98B-501595F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C76D-6C57-447E-85DD-497EA9F510F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A2F5-8829-47E7-A8A1-549F5F196E5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Genetics and Hered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4724280" y="1523880"/>
            <a:ext cx="4114800" cy="3353040"/>
            <a:chOff x="4724280" y="1523880"/>
            <a:chExt cx="411480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5460840" y="2093760"/>
              <a:ext cx="3378240" cy="2783160"/>
              <a:chOff x="5460840" y="2093760"/>
              <a:chExt cx="3378240" cy="278316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460840" y="2093760"/>
                <a:ext cx="3378240" cy="2783160"/>
                <a:chOff x="5460840" y="2093760"/>
                <a:chExt cx="3378240" cy="2783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460840" y="2093760"/>
                  <a:ext cx="3378240" cy="2783160"/>
                </a:xfrm>
                <a:prstGeom prst="rect">
                  <a:avLst/>
                </a:prstGeom>
                <a:solidFill>
                  <a:srgbClr val="c9ddf1"/>
                </a:solidFill>
                <a:ln w="2232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460840" y="3485160"/>
                  <a:ext cx="337824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7126560" y="2093760"/>
                <a:ext cx="0" cy="2783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075360" y="1523880"/>
              <a:ext cx="2333520" cy="609840"/>
              <a:chOff x="6075360" y="1523880"/>
              <a:chExt cx="2333520" cy="609840"/>
            </a:xfrm>
          </p:grpSpPr>
          <p:sp>
            <p:nvSpPr>
              <p:cNvPr id="170" name=""/>
              <p:cNvSpPr/>
              <p:nvPr/>
            </p:nvSpPr>
            <p:spPr>
              <a:xfrm>
                <a:off x="6075360" y="1523880"/>
                <a:ext cx="7369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71960" y="1523880"/>
                <a:ext cx="7369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724280" y="2535120"/>
              <a:ext cx="552600" cy="1939320"/>
              <a:chOff x="4724280" y="2535120"/>
              <a:chExt cx="552600" cy="1939320"/>
            </a:xfrm>
          </p:grpSpPr>
          <p:sp>
            <p:nvSpPr>
              <p:cNvPr id="173" name=""/>
              <p:cNvSpPr/>
              <p:nvPr/>
            </p:nvSpPr>
            <p:spPr>
              <a:xfrm>
                <a:off x="4724280" y="2535120"/>
                <a:ext cx="552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69800" y="3864600"/>
                <a:ext cx="306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Y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829480" y="2473200"/>
              <a:ext cx="1180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3800" y="2535120"/>
              <a:ext cx="1111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3440" y="3863880"/>
              <a:ext cx="860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72320" y="3863880"/>
              <a:ext cx="938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09480" y="121932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hild with hemophilia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51460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Normal child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80988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Normal female child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10552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Male child with hemophilia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75248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9718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0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3434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0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563868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88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89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8120" y="990720"/>
            <a:ext cx="2895480" cy="609840"/>
            <a:chOff x="3048120" y="990720"/>
            <a:chExt cx="2895480" cy="609840"/>
          </a:xfrm>
        </p:grpSpPr>
        <p:sp>
          <p:nvSpPr>
            <p:cNvPr id="193" name=""/>
            <p:cNvSpPr/>
            <p:nvPr/>
          </p:nvSpPr>
          <p:spPr>
            <a:xfrm>
              <a:off x="304812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920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371600" y="2209680"/>
            <a:ext cx="685800" cy="2210040"/>
            <a:chOff x="1371600" y="2209680"/>
            <a:chExt cx="685800" cy="2210040"/>
          </a:xfrm>
        </p:grpSpPr>
        <p:sp>
          <p:nvSpPr>
            <p:cNvPr id="196" name=""/>
            <p:cNvSpPr/>
            <p:nvPr/>
          </p:nvSpPr>
          <p:spPr>
            <a:xfrm>
              <a:off x="1371600" y="2209680"/>
              <a:ext cx="685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743200" y="213372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20968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38098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38098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4724280" y="1523880"/>
            <a:ext cx="4114800" cy="3353040"/>
            <a:chOff x="4724280" y="1523880"/>
            <a:chExt cx="4114800" cy="3353040"/>
          </a:xfrm>
        </p:grpSpPr>
        <p:grpSp>
          <p:nvGrpSpPr>
            <p:cNvPr id="203" name=""/>
            <p:cNvGrpSpPr/>
            <p:nvPr/>
          </p:nvGrpSpPr>
          <p:grpSpPr>
            <a:xfrm>
              <a:off x="5460840" y="2093760"/>
              <a:ext cx="3378240" cy="2783160"/>
              <a:chOff x="5460840" y="2093760"/>
              <a:chExt cx="3378240" cy="278316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5460840" y="2093760"/>
                <a:ext cx="3378240" cy="2783160"/>
                <a:chOff x="5460840" y="2093760"/>
                <a:chExt cx="3378240" cy="2783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460840" y="2093760"/>
                  <a:ext cx="3378240" cy="2783160"/>
                </a:xfrm>
                <a:prstGeom prst="rect">
                  <a:avLst/>
                </a:prstGeom>
                <a:solidFill>
                  <a:srgbClr val="c9ddf1"/>
                </a:solidFill>
                <a:ln w="2232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60840" y="3485160"/>
                  <a:ext cx="337824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7126560" y="2093760"/>
                <a:ext cx="0" cy="2783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075360" y="1523880"/>
              <a:ext cx="2333520" cy="609840"/>
              <a:chOff x="6075360" y="1523880"/>
              <a:chExt cx="2333520" cy="609840"/>
            </a:xfrm>
          </p:grpSpPr>
          <p:sp>
            <p:nvSpPr>
              <p:cNvPr id="209" name=""/>
              <p:cNvSpPr/>
              <p:nvPr/>
            </p:nvSpPr>
            <p:spPr>
              <a:xfrm>
                <a:off x="6075360" y="1523880"/>
                <a:ext cx="7369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71960" y="1523880"/>
                <a:ext cx="7369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724280" y="2535120"/>
              <a:ext cx="552600" cy="1939320"/>
              <a:chOff x="4724280" y="2535120"/>
              <a:chExt cx="552600" cy="1939320"/>
            </a:xfrm>
          </p:grpSpPr>
          <p:sp>
            <p:nvSpPr>
              <p:cNvPr id="212" name=""/>
              <p:cNvSpPr/>
              <p:nvPr/>
            </p:nvSpPr>
            <p:spPr>
              <a:xfrm>
                <a:off x="4724280" y="2535120"/>
                <a:ext cx="552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69800" y="3864600"/>
                <a:ext cx="306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Y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829480" y="2473200"/>
              <a:ext cx="1180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3800" y="2535120"/>
              <a:ext cx="1111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3440" y="3863880"/>
              <a:ext cx="860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2320" y="3863880"/>
              <a:ext cx="938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33520" y="91440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hild with hemophilia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209680"/>
            <a:ext cx="304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hild with normal blood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0384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Male child hemophilia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5410080"/>
            <a:ext cx="51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Female child w/ normal blood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25%  (1/4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20040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75%  (3/4)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64832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1/2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60199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00%  (2/2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81080" y="2362320"/>
            <a:ext cx="6248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Sex-Linked Traits Practi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You must do this </a:t>
            </a:r>
            <a:r>
              <a:rPr b="0" lang="en-US" sz="3500" spc="-1" strike="noStrike">
                <a:solidFill>
                  <a:srgbClr val="cc0000"/>
                </a:solidFill>
                <a:latin typeface="Times New Roman"/>
              </a:rPr>
              <a:t>individually</a:t>
            </a: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 and turn in for a daily grade </a:t>
            </a: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Long Lost Son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Blood Types &amp; DNA Fingerprinting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art 1:  Blood Type 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182880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Genotype(s) for Mr. Cash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429000"/>
            <a:ext cx="594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Genotype(s) for Long Lost Son #1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952880"/>
            <a:ext cx="601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Genotype(s) for Long Lost Son #2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243828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403848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i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55627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  or  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 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1371600"/>
            <a:ext cx="72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an Long Lost Son #1 be Mr. Cash’s son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11480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an Long Lost Son #2 be Mr. Cash’s son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057400"/>
            <a:ext cx="670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No.  A person with type AB blood can never produce a child with type O blood.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876920"/>
            <a:ext cx="6781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Yes.  A person with AB blood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can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 produce a child with type B blood.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art 2.  DNA Fingerprinting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2133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ich of Long Lost Son #2’s DNA match his mother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352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ich of Long Lost Son #2’s DNA match Mr. Cas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800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ich of Long Lost Son #2’s DNA do not match either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6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3 &amp; 4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1, 2 &amp; 5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62120" y="1447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Is Long Lost Son #2 Mr. Cash’s biological son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286000"/>
            <a:ext cx="6172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Yes.  Half of his DNA comes from his mother and half comes from his father (Mr. Cash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n’t Forget……..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523880"/>
            <a:ext cx="60199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Genetics Quiz next period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Vocabulary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Monohybrid Crosses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Dihybrid Crosses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Blood Type Crosses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Sex-Linked Traits Crosses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699160"/>
            <a:ext cx="7619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Be prepared when you come to class….            no study time!!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The Genetics of Blood Types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Multiple Alleles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You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MUST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know this from memory!!!!!!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7920" y="2133720"/>
          <a:ext cx="6095880" cy="40640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Phenotype</a:t>
                      </a:r>
                      <a:endParaRPr b="0" lang="en-US" sz="3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Genotype</a:t>
                      </a:r>
                      <a:endParaRPr b="0" lang="en-US" sz="3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  or  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  or  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AB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O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i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98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99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048120" y="990720"/>
            <a:ext cx="2895480" cy="609840"/>
            <a:chOff x="3048120" y="990720"/>
            <a:chExt cx="2895480" cy="609840"/>
          </a:xfrm>
        </p:grpSpPr>
        <p:sp>
          <p:nvSpPr>
            <p:cNvPr id="103" name=""/>
            <p:cNvSpPr/>
            <p:nvPr/>
          </p:nvSpPr>
          <p:spPr>
            <a:xfrm>
              <a:off x="304812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523880" y="2209680"/>
            <a:ext cx="533520" cy="2210040"/>
            <a:chOff x="1523880" y="2209680"/>
            <a:chExt cx="533520" cy="2210040"/>
          </a:xfrm>
        </p:grpSpPr>
        <p:sp>
          <p:nvSpPr>
            <p:cNvPr id="106" name=""/>
            <p:cNvSpPr/>
            <p:nvPr/>
          </p:nvSpPr>
          <p:spPr>
            <a:xfrm>
              <a:off x="1523880" y="2209680"/>
              <a:ext cx="533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971800" y="21337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2096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B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B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3341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A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199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B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53341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AB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60199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O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3341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6019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53341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019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21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22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8120" y="990720"/>
            <a:ext cx="2895480" cy="609840"/>
            <a:chOff x="3048120" y="990720"/>
            <a:chExt cx="2895480" cy="609840"/>
          </a:xfrm>
        </p:grpSpPr>
        <p:sp>
          <p:nvSpPr>
            <p:cNvPr id="126" name=""/>
            <p:cNvSpPr/>
            <p:nvPr/>
          </p:nvSpPr>
          <p:spPr>
            <a:xfrm>
              <a:off x="304812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523880" y="2209680"/>
            <a:ext cx="533520" cy="2210040"/>
            <a:chOff x="1523880" y="2209680"/>
            <a:chExt cx="533520" cy="2210040"/>
          </a:xfrm>
        </p:grpSpPr>
        <p:sp>
          <p:nvSpPr>
            <p:cNvPr id="129" name=""/>
            <p:cNvSpPr/>
            <p:nvPr/>
          </p:nvSpPr>
          <p:spPr>
            <a:xfrm>
              <a:off x="1523880" y="2209680"/>
              <a:ext cx="533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971800" y="21337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2096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3341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A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60199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B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53341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AB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60199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O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53341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6019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53341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6019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2362320"/>
            <a:ext cx="5562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lood Groups Practi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You must do this </a:t>
            </a:r>
            <a:r>
              <a:rPr b="0" lang="en-US" sz="3500" spc="-1" strike="noStrike">
                <a:solidFill>
                  <a:srgbClr val="cc0000"/>
                </a:solidFill>
                <a:latin typeface="Times New Roman"/>
              </a:rPr>
              <a:t>individually</a:t>
            </a: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 and turn in for a daily grade </a:t>
            </a: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ex-Linked Traits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Traits located on the X chromosome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(much more common in males)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You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MUST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know this from memory!!!!!!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2133720"/>
          <a:ext cx="8001000" cy="4086000"/>
        </p:xfrm>
        <a:graphic>
          <a:graphicData uri="http://schemas.openxmlformats.org/drawingml/2006/table">
            <a:tbl>
              <a:tblPr/>
              <a:tblGrid>
                <a:gridCol w="2971800"/>
                <a:gridCol w="50292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Genotypes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Phenotypes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Normal – fe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Normal (carrier)– fe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Hemophilia - fe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Y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Normal - 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Y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Hemophilia - 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49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50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048120" y="990720"/>
            <a:ext cx="2895480" cy="609840"/>
            <a:chOff x="3048120" y="990720"/>
            <a:chExt cx="2895480" cy="609840"/>
          </a:xfrm>
        </p:grpSpPr>
        <p:sp>
          <p:nvSpPr>
            <p:cNvPr id="154" name=""/>
            <p:cNvSpPr/>
            <p:nvPr/>
          </p:nvSpPr>
          <p:spPr>
            <a:xfrm>
              <a:off x="304812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371600" y="2209680"/>
            <a:ext cx="685800" cy="2210040"/>
            <a:chOff x="1371600" y="2209680"/>
            <a:chExt cx="685800" cy="2210040"/>
          </a:xfrm>
        </p:grpSpPr>
        <p:sp>
          <p:nvSpPr>
            <p:cNvPr id="157" name=""/>
            <p:cNvSpPr/>
            <p:nvPr/>
          </p:nvSpPr>
          <p:spPr>
            <a:xfrm>
              <a:off x="1371600" y="2209680"/>
              <a:ext cx="685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743200" y="213372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220968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8098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8098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6:45:21Z</dcterms:created>
  <dc:creator>Plano ISD</dc:creator>
  <dc:description/>
  <dc:language>en-US</dc:language>
  <cp:lastModifiedBy>Amy Schilling</cp:lastModifiedBy>
  <dcterms:modified xsi:type="dcterms:W3CDTF">2008-02-07T13:59:55Z</dcterms:modified>
  <cp:revision>47</cp:revision>
  <dc:subject/>
  <dc:title>Genetics and Heredity</dc:title>
</cp:coreProperties>
</file>